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0C55-EBD8-40BD-93CA-B1CF1397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2ADC-6ED0-49C7-A89A-A120C4A0F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8019-8118-44CE-AD89-EB34E7C3B8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4680" y="7617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</a:rPr>
              <a:t>The Five-Paragraph Essay</a:t>
            </a:r>
            <a:endParaRPr b="0" lang="en-US" sz="4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40384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Framework for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xpository Wri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70536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You already have your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irst paragraph done!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retty easy, huh?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it even easier look at this organizational plan using color-coding.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327320" y="609480"/>
          <a:ext cx="88236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609480"/>
                    <a:ext cx="8823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4568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1: The Introducti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ntroduction or Topic Sentence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(Use key words from the promp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ird Subtopic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onclusio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estates Introdu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4160" y="228600"/>
            <a:ext cx="8259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1: Exampl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My favorite pet is my dog, Romeo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e is beautiful and easy to care for.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lots of fun.</a:t>
            </a:r>
            <a:r>
              <a:rPr b="1" lang="en-US" sz="36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He always takes care of me.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 have never had a better p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94920" y="533160"/>
            <a:ext cx="7239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te each subtopic as the topic sentence for each of the next three paragraph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Example #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e is beautiful and easy to care for.”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you will restat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2: Example #1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pic Sentenc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Restates Example #1 from the Introduction “He is beautiful and easy to care for.”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ve your Topic 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cluding Sentenc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Restates Topic Sentence from Example #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2: Example #1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omeo is beautiful and easy to care for. He is a tricolor Sheltie, mostly black with white and a bit of brown. Caring for him is easy because I simply have to make sure he has fresh water and food every day. I exercise him by throwing his toys. Because he is good looking and doesn’t require much care Romeo is a good pe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9250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te the second subtopic as the topic sentence for the next paragraph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Example #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 “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lots of fun.”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you will restat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954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3: Example #2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Topic Sentenc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Restate Example #2 from the Introduction “Playing with him is lots of fun.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Prove your Topic 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cluding Sentenc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Restates   Topic Sentence from Example #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3: Example #2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Romeo is lots of fun to play with. He loves to play catch. He follows me around the house with a toy and drops it on my foot so I will toss it. He can catch just about anything, but his favorite is chasing a Frisbee. I really have fun playing with Rome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80769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third subtopic (example) as the topic sentence for the next paragraph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ird Subtopic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Example #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He always takes care of me.”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rite for fun. We write letters, stories, jokes, and to share information with our family or friend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school writing, however,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pository wri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fits into a different categor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Different Kinds of Wri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48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4: Example #3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opic Sentenc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Restates Example #3 from the Introduction “Romeo takes care of me.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That prove your Topic _x0008_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Concluding Sentenc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Restates Topic Sentence from Example #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4: Example #3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Romeo takes care of me. He always follows me when I leave a room. When I am sitting on a couch he plops down right beside me. On sunny days when we are hiking in the woods he always makes sure that I keep up with the rest of the family. He always watches out for 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54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5: Conclu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states Paragraph 1: Introduction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21333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Third Sentence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954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5: Conclu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states Paragraph 1: Introduction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As you can see, Romeo is a great pet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 am proud of him and he doesn’t require much care.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very pleasurable.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I am always safe because he watches over me.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omeo is a wonderful p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6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re you have it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sitory writing isn’t that difficult when you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pl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ake it even easier you may want to use a graphic organizer like the following ones to organize your though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564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6320" y="61920"/>
            <a:ext cx="912492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ve fun with your writing &amp; remember, you only need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Arial Black"/>
              </a:rPr>
              <a:t>THREE IDEAS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a great expository essay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2971800" y="3276720"/>
          <a:ext cx="348624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276720"/>
                    <a:ext cx="3486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ository Wri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34286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information about a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s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dir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s how to do some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523880" y="3049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urpose of most expository writing is to communicate ideas or answer questions.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ository Writing Uses Transit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riter’s Expr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ay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sitory writing uses transition words (such as first, second, and most importantly). These words help guide the reader through the explanatio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riter’s Express - A Handbook for Young Writers, Thinkers, and Learne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©199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o, your teacher gives you a prompt and tells you to write an expository essay:</a:t>
            </a: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31240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do??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 panic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llow this pla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tch for the color-coding, it will help you organize your idea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1143000" y="2895480"/>
          <a:ext cx="145260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14526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6"/>
          <p:cNvSpPr/>
          <p:nvPr/>
        </p:nvSpPr>
        <p:spPr>
          <a:xfrm>
            <a:off x="1601280" y="2133720"/>
            <a:ext cx="68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rite about your favorite pet.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54120" y="304560"/>
            <a:ext cx="6827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It’s Easy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43000" y="2133720"/>
            <a:ext cx="762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You ONLY Need </a:t>
            </a:r>
            <a:r>
              <a:rPr b="0" i="1" lang="en-US" sz="3200" spc="-1" strike="noStrike">
                <a:solidFill>
                  <a:srgbClr val="003366"/>
                </a:solidFill>
                <a:latin typeface="Arial Black"/>
              </a:rPr>
              <a:t>Three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Ideas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371600" y="1227240"/>
            <a:ext cx="716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with your main idea or topic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se key words from the prompt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1295280" y="297180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easons that show your topic sentence is tru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ree examples for each of your reasons (Remember to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not tell.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That’s all you need for the start of a great essay!!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Use Correct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Paragraph Form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7920" y="26665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pic Sent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re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19320" y="5105520"/>
            <a:ext cx="7543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448"/>
                </a:solidFill>
                <a:latin typeface="Arial Black"/>
              </a:rPr>
              <a:t>No paragraph should be l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448"/>
                </a:solidFill>
                <a:latin typeface="Arial Black"/>
              </a:rPr>
              <a:t>than five sentenc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371600" y="17524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paragraph must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with a topic sentence that uses the </a:t>
            </a:r>
            <a:r>
              <a:rPr b="1" i="1" lang="en-US" sz="3200" spc="-1" strike="noStrike">
                <a:solidFill>
                  <a:srgbClr val="002448"/>
                </a:solidFill>
                <a:latin typeface="Arial"/>
                <a:ea typeface="Times New Roman"/>
              </a:rPr>
              <a:t>key wor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the promp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write </a:t>
            </a:r>
            <a:r>
              <a:rPr b="1" i="1" lang="en-US" sz="3200" spc="-1" strike="noStrike">
                <a:solidFill>
                  <a:srgbClr val="002448"/>
                </a:solidFill>
                <a:latin typeface="Arial"/>
              </a:rPr>
              <a:t>three reas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prove the topic sentence is tru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pet is my dog, Romeo. He is a beautiful and easy to care for. Playing with him is lots of fun. He always takes care of 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Beginning -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Your First Sentence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Now end with a conclusion: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mber, each paragraph must have a concluding sentenc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with a sentence that restates your topic senten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pet is my dog, Romeo.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different wor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have never had a better pe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22:19:58Z</dcterms:created>
  <dc:creator>Paula Barnard</dc:creator>
  <dc:description/>
  <dc:language>en-US</dc:language>
  <cp:lastModifiedBy>Computer Tech</cp:lastModifiedBy>
  <cp:lastPrinted>2000-05-05T18:45:21Z</cp:lastPrinted>
  <dcterms:modified xsi:type="dcterms:W3CDTF">2013-03-21T13:28:24Z</dcterms:modified>
  <cp:revision>72</cp:revision>
  <dc:subject/>
  <dc:title>The Five-Paragraph Essay</dc:title>
</cp:coreProperties>
</file>